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9E64-3004-4A9F-AB9B-30487E810896}"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08E3-ACAF-4658-BC58-4504548FE04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A133-0B85-4A6A-920D-6705F0F0F73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7C29-59AA-412E-AFD8-34FC5927974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396B-49CE-4EF6-BC47-F34427096E8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46160" y="299880"/>
            <a:ext cx="814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Management; Presented 6 Dec 2011, AGU Data Management 101 for the Earth Scientist</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dx.doi.org/10.1126/science.1203354" TargetMode="External"/><Relationship Id="rId2" Type="http://schemas.openxmlformats.org/officeDocument/2006/relationships/hyperlink" Target="http://research.microsoft.com/en-us/collaboration/fourthparadigm/4th_paradigm_book_part4_lynch.pdf" TargetMode="External"/><Relationship Id="rId3" Type="http://schemas.openxmlformats.org/officeDocument/2006/relationships/hyperlink" Target="http://www.jstage.jst.go.jp/article/dsj/6/0/OD36/_pdf"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jstor.org/stable/10.1525/bio.2009.59.5.9"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Why</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use is growing in importance in almost all scientific field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re-use depends on the availability of trust-worthy data se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ust in data is highly connected to the reputation of the data collectors and data archiv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ving a reputation for collecting and sharing high quality and well documented data makes it more likely tha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us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cit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share their data with you</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get a reputation for data managemen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ke data openly accessible by submitting to open data archiv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comprehensive meta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swer questions from data users in a timely manner</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ensure that reputations for data management can grow?</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proper attribution when you use data collected by someone else</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ite data sets in your reference l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ach proper data management and data attribution to new scient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6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71680" y="584280"/>
            <a:ext cx="1111248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gencies with proposal requirements</a:t>
            </a: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a:t>
            </a:r>
            <a:endParaRPr b="0" lang="en-US" sz="3400" spc="-1" strike="noStrike">
              <a:solidFill>
                <a:srgbClr val="60606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685440"/>
            <a:ext cx="111884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Agencies with data management mandates</a:t>
            </a:r>
            <a:r>
              <a:rPr b="0" lang="en-US" sz="4000" spc="-1" strike="noStrike">
                <a:solidFill>
                  <a:srgbClr val="000000"/>
                </a:solidFill>
                <a:latin typeface="Helvetica Neue Light"/>
              </a:rPr>
              <a:t>	</a:t>
            </a:r>
            <a:endParaRPr b="0" lang="en-US" sz="4000" spc="-1" strike="noStrike">
              <a:solidFill>
                <a:srgbClr val="000000"/>
              </a:solidFill>
              <a:latin typeface="Helvetica Neue Light"/>
            </a:endParaRPr>
          </a:p>
        </p:txBody>
      </p:sp>
      <p:sp>
        <p:nvSpPr>
          <p:cNvPr id="76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specific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offices, contractors and partners receiving NOAA funding must manage environmental data in compliance with Federal requirements and directives</a:t>
            </a:r>
            <a:endParaRPr b="0" lang="en-US" sz="34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1" name="PlaceHolder 2"/>
          <p:cNvSpPr>
            <a:spLocks noGrp="1"/>
          </p:cNvSpPr>
          <p:nvPr>
            <p:ph/>
          </p:nvPr>
        </p:nvSpPr>
        <p:spPr>
          <a:xfrm>
            <a:off x="634680" y="2209680"/>
            <a:ext cx="11861640" cy="704880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rzberger P, Schroeder P, Beaulieu A, Bowker G, Casey K, Laaksonen  Moorman D, Uhlir P, and P Wouters. 2004. “Promoting Access to Public Research Data for Scientific, Economic, and Social Development,” </a:t>
            </a:r>
            <a:r>
              <a:rPr b="0" i="1" lang="en-US" sz="2400" spc="-1" strike="noStrike">
                <a:solidFill>
                  <a:srgbClr val="606060"/>
                </a:solidFill>
                <a:latin typeface="Helvetica Neue"/>
              </a:rPr>
              <a:t>Data Science Journal </a:t>
            </a:r>
            <a:r>
              <a:rPr b="0" lang="en-US" sz="2400" spc="-1" strike="noStrike">
                <a:solidFill>
                  <a:srgbClr val="606060"/>
                </a:solidFill>
                <a:latin typeface="Helvetica Neue"/>
              </a:rPr>
              <a:t>Volume 3,.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Hanson, B., A. Sugden, and B. Alberts. 2011. “Making data maximally available.” </a:t>
            </a:r>
            <a:r>
              <a:rPr b="0" i="1" lang="fr-FR" sz="2400" spc="-1" strike="noStrike">
                <a:solidFill>
                  <a:srgbClr val="606060"/>
                </a:solidFill>
                <a:latin typeface="Helvetica Neue"/>
              </a:rPr>
              <a:t>Science </a:t>
            </a:r>
            <a:r>
              <a:rPr b="0" lang="fr-FR" sz="2400" spc="-1" strike="noStrike">
                <a:solidFill>
                  <a:srgbClr val="606060"/>
                </a:solidFill>
                <a:latin typeface="Helvetica Neue"/>
              </a:rPr>
              <a:t>331(6018): 649. </a:t>
            </a:r>
            <a:r>
              <a:rPr b="0" lang="fr-FR" sz="2400" spc="-1" strike="noStrike" u="sng">
                <a:solidFill>
                  <a:srgbClr val="009999"/>
                </a:solidFill>
                <a:uFillTx/>
                <a:latin typeface="Helvetica Neue"/>
                <a:hlinkClick r:id="rId1"/>
              </a:rPr>
              <a:t>http://dx.doi.org/10.1126/science.1203354</a:t>
            </a:r>
            <a:r>
              <a:rPr b="0" lang="fr-FR" sz="2400" spc="-1" strike="noStrike">
                <a:solidFill>
                  <a:srgbClr val="606060"/>
                </a:solidFill>
                <a:latin typeface="Helvetica Neue"/>
              </a:rPr>
              <a:t>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Lynch, C. 2009. “Jim Gray’s Fourth Paradigm and the Construction of the Scientific Record.” In </a:t>
            </a:r>
            <a:r>
              <a:rPr b="0" i="1" lang="en-US" sz="2400" spc="-1" strike="noStrike">
                <a:solidFill>
                  <a:srgbClr val="606060"/>
                </a:solidFill>
                <a:latin typeface="Helvetica Neue"/>
              </a:rPr>
              <a:t>The Fourth Paradigm: Data-Intensive Scientific Discovery, </a:t>
            </a:r>
            <a:r>
              <a:rPr b="0" lang="en-US" sz="2400" spc="-1" strike="noStrike">
                <a:solidFill>
                  <a:srgbClr val="606060"/>
                </a:solidFill>
                <a:latin typeface="Helvetica Neue"/>
              </a:rPr>
              <a:t>edited by T. Hey, S. Tansley, &amp; K. Tolle,137-146</a:t>
            </a:r>
            <a:r>
              <a:rPr b="0" i="1" lang="en-US" sz="2400" spc="-1" strike="noStrike">
                <a:solidFill>
                  <a:srgbClr val="606060"/>
                </a:solidFill>
                <a:latin typeface="Helvetica Neue"/>
              </a:rPr>
              <a:t>. </a:t>
            </a:r>
            <a:r>
              <a:rPr b="0" lang="en-US" sz="2400" spc="-1" strike="noStrike">
                <a:solidFill>
                  <a:srgbClr val="606060"/>
                </a:solidFill>
                <a:latin typeface="Helvetica Neue"/>
              </a:rPr>
              <a:t>Redmond, WA: Microsoft</a:t>
            </a:r>
            <a:r>
              <a:rPr b="0" i="1" lang="en-US" sz="2400" spc="-1" strike="noStrike">
                <a:solidFill>
                  <a:srgbClr val="606060"/>
                </a:solidFill>
                <a:latin typeface="Helvetica Neue"/>
              </a:rPr>
              <a:t>. </a:t>
            </a:r>
            <a:r>
              <a:rPr b="0" i="1" lang="en-US" sz="2400" spc="-1" strike="noStrike" u="sng">
                <a:solidFill>
                  <a:srgbClr val="009999"/>
                </a:solidFill>
                <a:uFillTx/>
                <a:latin typeface="Helvetica Neue"/>
                <a:hlinkClick r:id="rId2"/>
              </a:rPr>
              <a:t>http://research.microsoft.com/en-us/collaboration/fourthparadigm/4th_paradigm_book_part4_lynch.pdf</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wowar HA, Day RS, Fridsma DB, 2007 “Sharing Detailed Research Data Is Associated with Increased Citation Rate”</a:t>
            </a:r>
            <a:r>
              <a:rPr b="0" i="1" lang="en-US" sz="2400" spc="-1" strike="noStrike">
                <a:solidFill>
                  <a:srgbClr val="606060"/>
                </a:solidFill>
                <a:latin typeface="Helvetica Neue"/>
              </a:rPr>
              <a:t>. PLoS ONE </a:t>
            </a:r>
            <a:r>
              <a:rPr b="0" lang="en-US" sz="2400" spc="-1" strike="noStrike">
                <a:solidFill>
                  <a:srgbClr val="606060"/>
                </a:solidFill>
                <a:latin typeface="Helvetica Neue"/>
              </a:rPr>
              <a:t>2(3): e308. doi:10.1371/journal.pone.0000308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Uhlir, P.F. and P. Schröder. 2007. “Open data for global science.” </a:t>
            </a:r>
            <a:r>
              <a:rPr b="0" i="1" lang="en-US" sz="2400" spc="-1" strike="noStrike">
                <a:solidFill>
                  <a:srgbClr val="606060"/>
                </a:solidFill>
                <a:latin typeface="Helvetica Neue"/>
              </a:rPr>
              <a:t>Data Science Journal </a:t>
            </a:r>
            <a:r>
              <a:rPr b="0" lang="en-US" sz="2400" spc="-1" strike="noStrike">
                <a:solidFill>
                  <a:srgbClr val="606060"/>
                </a:solidFill>
                <a:latin typeface="Helvetica Neue"/>
              </a:rPr>
              <a:t>Volume 6. </a:t>
            </a:r>
            <a:r>
              <a:rPr b="0" lang="en-US" sz="2400" spc="-1" strike="noStrike" u="sng">
                <a:solidFill>
                  <a:srgbClr val="009999"/>
                </a:solidFill>
                <a:uFillTx/>
                <a:latin typeface="Helvetica Neue"/>
                <a:hlinkClick r:id="rId3"/>
              </a:rPr>
              <a:t>http://www.jstage.jst.go.jp/article/dsj/6/0/OD36/_pdf</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Costello, M. J. 2009. “Motivating Online Publication of Data.” </a:t>
            </a:r>
            <a:r>
              <a:rPr b="0" i="1" lang="en-US" sz="3600" spc="-1" strike="noStrike">
                <a:solidFill>
                  <a:srgbClr val="606060"/>
                </a:solidFill>
                <a:latin typeface="Helvetica Neue"/>
              </a:rPr>
              <a:t>BioScience</a:t>
            </a:r>
            <a:r>
              <a:rPr b="0" lang="en-US" sz="3600" spc="-1" strike="noStrike">
                <a:solidFill>
                  <a:srgbClr val="606060"/>
                </a:solidFill>
                <a:latin typeface="Helvetica Neue"/>
              </a:rPr>
              <a:t> 59(5): 418-427. </a:t>
            </a:r>
            <a:r>
              <a:rPr b="0" lang="en-US" sz="3600" spc="-1" strike="noStrike" u="sng">
                <a:solidFill>
                  <a:srgbClr val="009999"/>
                </a:solidFill>
                <a:uFillTx/>
                <a:latin typeface="Helvetica Neue"/>
                <a:hlinkClick r:id="rId1"/>
              </a:rPr>
              <a:t>http://www.jstor.org/stable/10.1525/bio.2009.59.5.9</a:t>
            </a:r>
            <a:endParaRPr b="0" lang="en-US" sz="36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Milinski, M., D. Semmann, and H.-J. Krambeck. 2002. “Reputation Helps Solve the ‘Tragedy of the Commons’.” </a:t>
            </a:r>
            <a:r>
              <a:rPr b="0" i="1" lang="en-US" sz="3600" spc="-1" strike="noStrike">
                <a:solidFill>
                  <a:srgbClr val="606060"/>
                </a:solidFill>
                <a:latin typeface="Helvetica Neue"/>
              </a:rPr>
              <a:t>Nature</a:t>
            </a:r>
            <a:r>
              <a:rPr b="0" lang="en-US" sz="3600" spc="-1" strike="noStrike">
                <a:solidFill>
                  <a:srgbClr val="606060"/>
                </a:solidFill>
                <a:latin typeface="Helvetica Neue"/>
              </a:rPr>
              <a:t> 415(6870): 424-426. http://dx.doi.org/10.1038/415424a </a:t>
            </a:r>
            <a:endParaRPr b="0" lang="en-US" sz="36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Barton, C., R. Smith, and R. Weaver. 2010. “Data practices, policy, and rewards in the information era demand a new paradigm.” </a:t>
            </a:r>
            <a:r>
              <a:rPr b="0" i="1" lang="en-US" sz="3600" spc="-1" strike="noStrike">
                <a:solidFill>
                  <a:srgbClr val="606060"/>
                </a:solidFill>
                <a:latin typeface="Helvetica Neue"/>
              </a:rPr>
              <a:t>Data Science Journal</a:t>
            </a:r>
            <a:r>
              <a:rPr b="0" lang="en-US" sz="3600" spc="-1" strike="noStrike">
                <a:solidFill>
                  <a:srgbClr val="606060"/>
                </a:solidFill>
                <a:latin typeface="Helvetica Neue"/>
              </a:rPr>
              <a:t> 9(12). http://www.jstage.jst.go.jp/article/dsj/9/0/IGY95/_pdf</a:t>
            </a:r>
            <a:endParaRPr b="0" lang="en-US" sz="36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C3 overview of Federal Funding Agency Data Management and Sharing Policies: http://www.cdlib.org/services/uc3/datamanagement/funding.htm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gency Guidanc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Guidance: http://www.nsf.gov/bfa/dias/policy/dmp.js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y: http://science1.nasa.gov/earth-science/earth-science-data/data-information-polic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http://www.corporateservices.noaa.gov/~ames/NAOs/Chap_212/naos_212_15.html</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 Data Policy</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2011. “Award and Administration Guide.” </a:t>
            </a:r>
            <a:r>
              <a:rPr b="0" lang="en-US" sz="2800" spc="-1" strike="noStrike">
                <a:solidFill>
                  <a:srgbClr val="606060"/>
                </a:solidFill>
                <a:latin typeface="Helvetica Neue"/>
              </a:rPr>
              <a:t>http://www.nsf.gov/pubs/policydocs/pappguide/nsf11001/aag_6.jsp#VID4.</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ata Management Plan Requirement</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Grant Proposal Guide, Chapter II.C.2.j.” http://www.nsf.gov/pubs/policydocs/pappguide/nsf11001/gpg_2.jsp#dm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irectorates with specific guidance</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Dissemination and Sharing of Research Results.” http://www.nsf.gov/bfa/dias/policy/dmp.jsp.</a:t>
            </a:r>
            <a:endParaRPr b="0" lang="en-US" sz="28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ing the scientific recor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acilitating science through data shar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turn on invest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nhancing your reput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ponding to agency requirement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cientific record is an aggregation of</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cientific journal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erence presentations and proceeding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chnical reports and pre-prin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the underlying data, software, and other evidence to support published findings </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aggregation is highly distributed acros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braries, Archives, and Museum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Cent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profit publish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web sit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file cabinets and hard drive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urpose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06060"/>
                </a:solidFill>
                <a:latin typeface="Helvetica Neue"/>
              </a:rPr>
              <a:t>Communicating findings, hypotheses, and insights </a:t>
            </a:r>
            <a:r>
              <a:rPr b="0" lang="en-US" sz="3200" spc="-1" strike="noStrike">
                <a:solidFill>
                  <a:srgbClr val="606060"/>
                </a:solidFill>
                <a:latin typeface="Helvetica Neue"/>
              </a:rPr>
              <a:t>from one person to another, across space and time</a:t>
            </a:r>
            <a:endParaRPr b="0" lang="en-US" sz="32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rganizing scientific communitie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stablishing common nomenclature and terminology </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necting related work</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ing disciplines </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Documenting, managing, </a:t>
            </a:r>
            <a:r>
              <a:rPr b="0" lang="en-US" sz="3400" spc="-1" strike="noStrike">
                <a:solidFill>
                  <a:srgbClr val="606060"/>
                </a:solidFill>
                <a:latin typeface="Helvetica Neue"/>
              </a:rPr>
              <a:t>and</a:t>
            </a:r>
            <a:r>
              <a:rPr b="0" i="1" lang="en-US" sz="3400" spc="-1" strike="noStrike">
                <a:solidFill>
                  <a:srgbClr val="606060"/>
                </a:solidFill>
                <a:latin typeface="Helvetica Neue"/>
              </a:rPr>
              <a:t> resolving </a:t>
            </a:r>
            <a:r>
              <a:rPr b="0" lang="en-US" sz="3400" spc="-1" strike="noStrike">
                <a:solidFill>
                  <a:srgbClr val="606060"/>
                </a:solidFill>
                <a:latin typeface="Helvetica Neue"/>
              </a:rPr>
              <a:t>controversies and disagreements </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Establishing precedence </a:t>
            </a:r>
            <a:r>
              <a:rPr b="0" lang="en-US" sz="3400" spc="-1" strike="noStrike">
                <a:solidFill>
                  <a:srgbClr val="606060"/>
                </a:solidFill>
                <a:latin typeface="Helvetica Neue"/>
              </a:rPr>
              <a:t>for ideas and resul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ffering evidence for the quality and significance </a:t>
            </a:r>
            <a:r>
              <a:rPr b="0" lang="en-US" sz="3400" spc="-1" strike="noStrike">
                <a:solidFill>
                  <a:srgbClr val="606060"/>
                </a:solidFill>
                <a:latin typeface="Helvetica Neue"/>
              </a:rPr>
              <a:t>of scientific work through citation and bibliometric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hallenges to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wo major challenges to the scientific record </a:t>
            </a:r>
            <a:endParaRPr b="0" lang="en-US" sz="36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complexity of experiments and data cause the linkages between evidence and writings to become more complex and elusive</a:t>
            </a:r>
            <a:endParaRPr b="0" lang="en-US" sz="32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rate of the growth of the literature and data</a:t>
            </a:r>
            <a:endParaRPr b="0" lang="en-US" sz="32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ciplines and sub-specialties branch and grow continuously</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ools and practices were developed to help manage literature: specialized journals, citations, indices, review journals and bibliographies, managed vocabularies, and taxonomies in various areas of science</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tools and practices are either non-existent or just beginning for data</a:t>
            </a:r>
            <a:endParaRPr b="0" lang="en-US" sz="2800" spc="-1" strike="noStrike">
              <a:solidFill>
                <a:srgbClr val="606060"/>
              </a:solidFill>
              <a:latin typeface="Helvetica Neue"/>
            </a:endParaRPr>
          </a:p>
          <a:p>
            <a:pPr lvl="2" marL="1569960" indent="-377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eservation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enets of the scientific record</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are trustworthy</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enable results to be reproducible and/or transparent</a:t>
            </a: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reserving the scientific record: Data considerations</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stored in a trustworthy institutional setting?</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documented in a way that ensures understandability, reproducibility, and transparency over time?</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acilitating science through data shar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lving modern complex scientific problems typically requires access to a wide variety of multi-disciplinary data</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ven small data sets produced by a researcher or a small research team can be useful to a broader community</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o should own the data from publically funded research?</a:t>
            </a:r>
            <a:endParaRPr b="0" lang="en-US" sz="34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udies have shown that making publically funded Earth science data openly and freely available drives economic growth</a:t>
            </a:r>
            <a:endParaRPr b="0" lang="en-US" sz="28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ilarly, studies have shown that there are positive public health and well-being impacts if publicly funded data is available</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s the return on your investment if your data is lost due to poor data management practice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cientific Reputation</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putation is central to the scientific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earchers build a reputation by producing valuable results, contributing constructively to scientific debates, and being good colleague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eer-recognition influences one’s employment opportunities, promotion at work, and ability to win further research funding</a:t>
            </a:r>
            <a:endParaRPr b="0" lang="en-US" sz="34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04:15:19Z</dcterms:created>
  <dc:creator/>
  <dc:description/>
  <cp:keywords/>
  <dc:language>en-US</dc:language>
  <cp:lastModifiedBy>Ruth Duerr</cp:lastModifiedBy>
  <dcterms:modified xsi:type="dcterms:W3CDTF">2011-12-03T06:30:57Z</dcterms:modified>
  <cp:revision>78</cp:revision>
  <dc:subject/>
  <dc:title>ESIP Federation 101</dc:title>
</cp:coreProperties>
</file>